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76316"/>
        <c:axId val="47703527"/>
      </c:barChart>
      <c:catAx>
        <c:axId val="86076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03527"/>
        <c:crosses val="autoZero"/>
        <c:auto val="1"/>
        <c:lblAlgn val="ctr"/>
        <c:lblOffset val="100"/>
        <c:noMultiLvlLbl val="0"/>
      </c:catAx>
      <c:valAx>
        <c:axId val="47703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76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8A5-1BFE-4F6D-9A71-1B46FA16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1ED-F603-41D9-B749-A7CF04F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43D-11E8-4136-8D7F-FDE085C1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59D-46A5-4B63-860C-09D1256A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E48-4D9E-4751-95AF-E43DF5C5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6A6-1D52-47F6-AD87-992BCD35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0C2-0625-4BDB-88CC-04DEA79C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079-7C20-42CF-8DCB-8F33F35B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2CA-2896-4E10-8D29-43C4E36A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5E-3E96-445E-9098-679D937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E112-5E5E-4077-A5D6-9816803A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96D-D18E-42BF-9591-192F11E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A7D13-7AE5-4541-923C-78E8BF7A6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