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70122"/>
        <c:axId val="67166348"/>
      </c:barChart>
      <c:catAx>
        <c:axId val="92701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166348"/>
        <c:crosses val="autoZero"/>
        <c:auto val="1"/>
        <c:lblAlgn val="ctr"/>
        <c:lblOffset val="100"/>
        <c:noMultiLvlLbl val="0"/>
      </c:catAx>
      <c:valAx>
        <c:axId val="671663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01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9C48-9DDA-425B-9C94-1E047CAA9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B563-570A-4940-B449-20C20D48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7D1A-7D02-41D4-8B7A-44096B17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1C37-6CA0-4B91-BCD0-47416135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F898-6E61-4312-9B83-D7B0447C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89FA-4BAA-48A8-969F-67997E31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24EC-313D-4B7E-ADC0-D52750AD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5C90-6574-4BD7-AA6A-79C24245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1962-A4D4-4E29-9CE7-A9819BEF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44C8-8058-411A-9D02-D39DBB6E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0D61-1383-4102-9743-6574C4EE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A491-B39E-4000-BDE5-F9E3CE31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99752A-62B5-48D2-AF0C-0B0E092F18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