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04394"/>
        <c:axId val="29983932"/>
      </c:barChart>
      <c:catAx>
        <c:axId val="14804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83932"/>
        <c:crosses val="autoZero"/>
        <c:auto val="1"/>
        <c:lblAlgn val="ctr"/>
        <c:lblOffset val="100"/>
        <c:noMultiLvlLbl val="0"/>
      </c:catAx>
      <c:valAx>
        <c:axId val="29983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04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80D-721E-40FB-ADCD-9577D19B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9676-F206-4D43-ACC3-7CA0A5FE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E8A-EC84-498A-A016-FDAA7C22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380-C689-4F38-982E-5EB37CAD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12C-D8A4-4530-B532-DE495DEB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DCE-7ED6-4440-A675-4D4E6AB4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927-E5CC-46E0-AE7F-29C3B9AB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149-5D6C-4271-8A8C-3ABFE799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C73-46C3-4425-98A7-C465DEB7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937-30A5-49A9-8E9C-E0C10143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F83-DADD-4DE4-A822-513C8559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652-88FD-4072-80FC-6029B0FF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25B61-E8BB-488D-A843-1A756F60CA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