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56495"/>
        <c:axId val="6299077"/>
      </c:barChart>
      <c:catAx>
        <c:axId val="83056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077"/>
        <c:crosses val="autoZero"/>
        <c:auto val="1"/>
        <c:lblAlgn val="ctr"/>
        <c:lblOffset val="100"/>
        <c:noMultiLvlLbl val="0"/>
      </c:catAx>
      <c:valAx>
        <c:axId val="6299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56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C39-6E2B-4B24-8418-1C751C9B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742-ABC6-4E2A-A0DF-9578269B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95D-3913-4AE7-803E-CD6B78EA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E8D-9AFE-4528-B836-7E03CC1A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889-C281-404C-9825-6FDDBB9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D51-CE68-4699-BAA1-F7E2EBA9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D0E-800C-47AF-8591-40ED2054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148-9260-4A42-93E7-FD4D61D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FE2-848C-43BB-B224-CBC9C7E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5C4-B6C5-43FD-A8B1-7C4BDC2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A8F-006D-4DC7-BBCC-4A16085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8E1-CDDC-48AA-A156-BB43538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45D99-3D5D-4C68-84C3-6C3E989B1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