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40540"/>
        <c:axId val="98488162"/>
      </c:barChart>
      <c:catAx>
        <c:axId val="56940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88162"/>
        <c:crosses val="autoZero"/>
        <c:auto val="1"/>
        <c:lblAlgn val="ctr"/>
        <c:lblOffset val="100"/>
        <c:noMultiLvlLbl val="0"/>
      </c:catAx>
      <c:valAx>
        <c:axId val="98488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40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4B3-CE02-46A3-8C3B-2487A133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B35-7804-4D00-9709-58D5076A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DB3-BADD-4B60-981A-78E91D0F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E17-4DBE-48C0-8FFC-4AF4F928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630-826C-4F37-B0B6-9147FD7E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27E-3F21-44E9-9169-AD81DB5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988-EFAD-4405-9DB4-02CDFD8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D46-6E26-4F28-9C94-40A131DF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849-9C50-41EA-B0B8-8427CE0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3D6-7083-42FB-BB7E-EC5DF4C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528-0A4D-417F-A36B-A804BEB8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B94-1D28-44A7-AA62-1B2C0B6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AACB0-FBF2-4A90-B550-5EBC4E93C1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