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35634"/>
        <c:axId val="17600454"/>
      </c:barChart>
      <c:catAx>
        <c:axId val="51935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0454"/>
        <c:crosses val="autoZero"/>
        <c:auto val="1"/>
        <c:lblAlgn val="ctr"/>
        <c:lblOffset val="100"/>
        <c:noMultiLvlLbl val="0"/>
      </c:catAx>
      <c:valAx>
        <c:axId val="17600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35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B55-F03D-47AB-BAED-0785EFCF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9A1-3631-4C7C-B73B-C00701D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B36-9435-4026-8164-F638D0D4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73D-F687-40BB-B2C3-6A7DDAE2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1C4-CC42-4E34-B1E9-EBC2FDDE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91B-5D83-40E2-8800-5B70282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EB3-A51F-4DF1-B6A4-7106140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6F5-5E39-4277-A484-2FAAE342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149-C347-4E1B-8D39-F3BF642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915-5F7C-4BDC-837A-DDFB819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228-FC6A-43A0-98C2-F9EBB16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C9E-EDB1-4E0F-8396-F6DBF2F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465C-F822-44F4-BF06-5036857F70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